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602F4-0CD6-45F3-8CD8-7C39FC213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A04CF-6B78-4969-B963-9DAFD88EB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7C187-3AF2-47D8-90FA-4918EA2E3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EB204-B8A5-4284-8505-ACB4362CA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4B9BF-6E4F-4CB6-A9BA-8163D26A1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7920E-6631-40D9-8BE4-57AAAA925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0E192-D290-4020-AFF3-67FD50B0D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4B102-1024-4694-A959-D995C3713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0A1BB-B0AE-4ECA-B17F-401D7DC82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04F02-233F-4B7D-BD98-BCD4F7C51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20D86-768F-404B-9FC9-97FEC2A31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B2700-EB7D-425D-9A8A-C4CC9C7A9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2426-B180-4E41-BD26-2B3A160FE03D}"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25000"/>
            <a:ext cx="7772400" cy="424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Urban Hierarchie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at Are They?</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ttlements </a:t>
            </a:r>
            <a:r>
              <a:rPr b="0" lang="en-US" sz="3200" spc="-1" strike="noStrike">
                <a:solidFill>
                  <a:srgbClr val="000000"/>
                </a:solidFill>
                <a:latin typeface="Calibri"/>
              </a:rPr>
              <a:t>can be described as being part of the </a:t>
            </a:r>
            <a:r>
              <a:rPr b="1" lang="en-US" sz="3200" spc="-1" strike="noStrike">
                <a:solidFill>
                  <a:srgbClr val="000000"/>
                </a:solidFill>
                <a:latin typeface="Calibri"/>
              </a:rPr>
              <a:t>urban hierarchy</a:t>
            </a: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they stand on the hierarchy depends on a number of factors, the main ones being population, the number of services a settlement has and its sphere of influ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opulation</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obvious way of deciding where a settlement ranks on the urban hierarchy is by using the </a:t>
            </a:r>
            <a:r>
              <a:rPr b="1" lang="en-US" sz="3200" spc="-1" strike="noStrike">
                <a:solidFill>
                  <a:srgbClr val="000000"/>
                </a:solidFill>
                <a:latin typeface="Calibri"/>
              </a:rPr>
              <a:t>population</a:t>
            </a:r>
            <a:r>
              <a:rPr b="0" lang="en-US" sz="3200" spc="-1" strike="noStrike">
                <a:solidFill>
                  <a:srgbClr val="000000"/>
                </a:solidFill>
                <a:latin typeface="Calibri"/>
              </a:rPr>
              <a:t> of that settle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r the population, the higher the settlement is placed on the hierarc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UK, the largest city in terms of population is London, which most people would agree is the most important settlement in the country and so deserves to be placed on the top of the urban hierarchy for the U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opulation</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that the divisions between what is classified in each layer is a bit more vagu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erent sources will have different numbers for how many people are needed for a place to be called a city rather than a town for inst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e most important thing to notice on the diagram is that as you go up the hierarchy, there becomes a lot less of that type of settleme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 the diagram shows us that there are huge numbers of isolated farmhouses and hamle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less villages and small towns and so 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opulation</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UK, many people would argue that only London should be placed in the highest rung of the triangl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some other large cities, such as Birmingham, Manchester and Leeds are growing fast, and may be considered to have reached the top level as w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ettlement Hierarchy</a:t>
            </a:r>
            <a:endParaRPr b="0" lang="en-US" sz="4400" spc="-1" strike="noStrike">
              <a:solidFill>
                <a:srgbClr val="000000"/>
              </a:solidFill>
              <a:latin typeface="Calibri"/>
            </a:endParaRPr>
          </a:p>
        </p:txBody>
      </p:sp>
      <p:pic>
        <p:nvPicPr>
          <p:cNvPr id="51" name="Picture 2" descr="http://www.bbc.co.uk/schools/gcsebitesize/geography/images/set_003.gif"/>
          <p:cNvPicPr/>
          <p:nvPr/>
        </p:nvPicPr>
        <p:blipFill>
          <a:blip r:embed="rId1"/>
          <a:stretch/>
        </p:blipFill>
        <p:spPr>
          <a:xfrm>
            <a:off x="684360" y="1455840"/>
            <a:ext cx="7940520" cy="536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23:38:01Z</dcterms:created>
  <dc:creator>Dell_02</dc:creator>
  <dc:description/>
  <dc:language>en-US</dc:language>
  <cp:lastModifiedBy>Dell_02</cp:lastModifiedBy>
  <dcterms:modified xsi:type="dcterms:W3CDTF">2011-01-25T23:43:07Z</dcterms:modified>
  <cp:revision>1</cp:revision>
  <dc:subject/>
  <dc:title>Urban Hierarchies</dc:title>
</cp:coreProperties>
</file>